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E1C-2CB9-40B0-969E-F05F5CFB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3E8-2B2C-4813-A8EB-7E61F782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937-3EE6-4089-B48D-CA49E886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77F-9B5C-4F65-A6F2-AFD9CF95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452-2021-4157-9DD9-FF30602F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16F-9880-46FF-89E3-825D15C5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126-C0DD-4B74-87CF-8227F900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8A6-8519-4937-AE8E-4CC73721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722-8C6B-4D44-A8DD-BFCF641C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395-647A-4406-8530-7D6FEFF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E62-0158-4B26-9B16-D7148EF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BCB-FFD1-4BCD-B4BD-CAFE61D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7BF2-7584-4D7B-9735-F7C34C41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 Čuj nádherné posolst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nemu sa utie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viesť sa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ystá ti večn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a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ráti sa čoskor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 sa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ústrety z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mu 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dnes jeho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nádherné posol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om č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 Synovi zosla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ú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sa sklonil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hriešnikov k sebe z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dnes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zdialený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svojvoľn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ti na návra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dosť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až hriechu a bremä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eba chce sň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láskou ťa obj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pokoj t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dnes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2:56Z</dcterms:modified>
  <cp:revision>17</cp:revision>
  <dc:subject/>
  <dc:title>Je veľký náš Pán, on slávy je Kráľ Nech do všetkých strán  spev vrúcnych znie chvál.</dc:title>
</cp:coreProperties>
</file>